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972800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F01-375F-46BA-A8EE-D59920C4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2240" y="660852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930-5612-4954-81F1-26B2D048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232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884-D935-45CB-BF06-9321013E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620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3016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224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620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3016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2CC-F195-4CA9-B4A9-90F98D1A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0F8-E93C-4944-876D-890A85CF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F4F-FA00-4EA6-A6CC-899877D6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071-135A-48DF-BD89-29D4D20B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EA71-5883-45E4-BCEF-199E92B1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2240" y="974880"/>
            <a:ext cx="932832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674-6E99-4873-A4C5-D2D6AFB2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435-FCA9-4923-940B-B5EBB89C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232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14C-DF50-4CE9-88CB-B43A8A49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D14A-6D16-4D84-B44D-54383B06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marL="469800" indent="-469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19160" indent="-3920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566720" indent="-312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2193840" indent="-3124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2240" y="9997560"/>
            <a:ext cx="228600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9997560"/>
            <a:ext cx="347328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9997560"/>
            <a:ext cx="228600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 algn="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fld id="{7B751964-B38E-45AF-BD64-86DE1AE9B4EE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111480"/>
            <a:ext cx="10683720" cy="786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 rot="18900000">
            <a:off x="7762680" y="-650880"/>
            <a:ext cx="228600" cy="725832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7258320"/>
              <a:gd name="textAreaBottom" fmla="*/ 7224840 h 7258320"/>
            </a:gdLst>
            <a:ahLst/>
            <a:rect l="textAreaLeft" t="textAreaTop" r="textAreaRight" b="textAreaBottom"/>
            <a:pathLst>
              <a:path w="21600" h="684781">
                <a:moveTo>
                  <a:pt x="10800" y="0"/>
                </a:moveTo>
                <a:arcTo wR="10800" hR="10800" stAng="16200000" swAng="-5400000"/>
                <a:lnTo>
                  <a:pt x="0" y="673981"/>
                </a:lnTo>
                <a:arcTo wR="10800" hR="10800" stAng="10800000" swAng="-5400000"/>
                <a:lnTo>
                  <a:pt x="10800" y="68478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rot="18900000">
            <a:off x="6339240" y="564120"/>
            <a:ext cx="228600" cy="58212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5821200"/>
              <a:gd name="textAreaBottom" fmla="*/ 5787720 h 5821200"/>
            </a:gdLst>
            <a:ahLst/>
            <a:rect l="textAreaLeft" t="textAreaTop" r="textAreaRight" b="textAreaBottom"/>
            <a:pathLst>
              <a:path w="21600" h="549204">
                <a:moveTo>
                  <a:pt x="10800" y="0"/>
                </a:moveTo>
                <a:arcTo wR="10800" hR="10800" stAng="16200000" swAng="-5400000"/>
                <a:lnTo>
                  <a:pt x="0" y="538404"/>
                </a:lnTo>
                <a:arcTo wR="10800" hR="10800" stAng="10800000" swAng="-5400000"/>
                <a:lnTo>
                  <a:pt x="10800" y="5492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rot="18900000">
            <a:off x="4701960" y="1773000"/>
            <a:ext cx="228600" cy="392796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3927960"/>
              <a:gd name="textAreaBottom" fmla="*/ 3894480 h 3927960"/>
            </a:gdLst>
            <a:ahLst/>
            <a:rect l="textAreaLeft" t="textAreaTop" r="textAreaRight" b="textAreaBottom"/>
            <a:pathLst>
              <a:path w="21600" h="370596">
                <a:moveTo>
                  <a:pt x="10800" y="0"/>
                </a:moveTo>
                <a:arcTo wR="10800" hR="10800" stAng="16200000" swAng="-5400000"/>
                <a:lnTo>
                  <a:pt x="0" y="359796"/>
                </a:lnTo>
                <a:arcTo wR="10800" hR="10800" stAng="10800000" swAng="-5400000"/>
                <a:lnTo>
                  <a:pt x="10800" y="3705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2700000">
            <a:off x="4777200" y="4028760"/>
            <a:ext cx="228600" cy="171252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1712520"/>
              <a:gd name="textAreaBottom" fmla="*/ 1679040 h 1712520"/>
            </a:gdLst>
            <a:ahLst/>
            <a:rect l="textAreaLeft" t="textAreaTop" r="textAreaRight" b="textAreaBottom"/>
            <a:pathLst>
              <a:path w="21600" h="161592">
                <a:moveTo>
                  <a:pt x="10800" y="0"/>
                </a:moveTo>
                <a:arcTo wR="10800" hR="10800" stAng="16200000" swAng="-5400000"/>
                <a:lnTo>
                  <a:pt x="0" y="150792"/>
                </a:lnTo>
                <a:arcTo wR="10800" hR="10800" stAng="10800000" swAng="-5400000"/>
                <a:lnTo>
                  <a:pt x="10800" y="16159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rot="2700000">
            <a:off x="2827800" y="-609480"/>
            <a:ext cx="228600" cy="70848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7084800"/>
              <a:gd name="textAreaBottom" fmla="*/ 7051320 h 7084800"/>
            </a:gdLst>
            <a:ahLst/>
            <a:rect l="textAreaLeft" t="textAreaTop" r="textAreaRight" b="textAreaBottom"/>
            <a:pathLst>
              <a:path w="21600" h="668411">
                <a:moveTo>
                  <a:pt x="10800" y="0"/>
                </a:moveTo>
                <a:arcTo wR="10800" hR="10800" stAng="16200000" swAng="-5400000"/>
                <a:lnTo>
                  <a:pt x="0" y="657611"/>
                </a:lnTo>
                <a:arcTo wR="10800" hR="10800" stAng="10800000" swAng="-5400000"/>
                <a:lnTo>
                  <a:pt x="10800" y="6684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rot="2700000">
            <a:off x="3299760" y="2895120"/>
            <a:ext cx="228600" cy="310068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3100680"/>
              <a:gd name="textAreaBottom" fmla="*/ 3067200 h 3100680"/>
            </a:gdLst>
            <a:ahLst/>
            <a:rect l="textAreaLeft" t="textAreaTop" r="textAreaRight" b="textAreaBottom"/>
            <a:pathLst>
              <a:path w="21600" h="292551">
                <a:moveTo>
                  <a:pt x="10800" y="0"/>
                </a:moveTo>
                <a:arcTo wR="10800" hR="10800" stAng="16200000" swAng="-5400000"/>
                <a:lnTo>
                  <a:pt x="0" y="281751"/>
                </a:lnTo>
                <a:arcTo wR="10800" hR="10800" stAng="10800000" swAng="-5400000"/>
                <a:lnTo>
                  <a:pt x="10800" y="29255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700000">
            <a:off x="7214760" y="2687040"/>
            <a:ext cx="34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b4"/>
                </a:solidFill>
                <a:latin typeface="Geneva"/>
              </a:rPr>
              <a:t>Tools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700000">
            <a:off x="4465440" y="2579040"/>
            <a:ext cx="502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6b08"/>
                </a:solidFill>
                <a:latin typeface="Geneva"/>
              </a:rPr>
              <a:t>Evolution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700000">
            <a:off x="3776760" y="2803320"/>
            <a:ext cx="302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Geneva"/>
              </a:rPr>
              <a:t>Bi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686800" y="8839080"/>
            <a:ext cx="2209680" cy="2060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66560" y="8763120"/>
            <a:ext cx="6863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323232"/>
                </a:solidFill>
                <a:latin typeface="Arial"/>
              </a:rPr>
              <a:t>Hackatho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04:33:58Z</dcterms:created>
  <dc:creator>GMOD / NESCent</dc:creator>
  <dc:description/>
  <dc:language>en-US</dc:language>
  <cp:lastModifiedBy>GMOD / NESCent</cp:lastModifiedBy>
  <dcterms:modified xsi:type="dcterms:W3CDTF">2010-06-22T22:08:14Z</dcterms:modified>
  <cp:revision>14</cp:revision>
  <dc:subject/>
  <dc:title>PowerPoint Presentation</dc:title>
</cp:coreProperties>
</file>